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674-D003-4E7A-A35C-92A70E8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DB5-BA8F-4CBC-99BB-A1B3A0CE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8AD-9920-4F4A-B20E-06F77774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7F1-2BAB-454F-8DC6-81BDDE1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0FEF-E911-4688-AD3F-FB3CB738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4EA7-A40A-43FB-B844-E4C47850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08B4-58A3-4DBF-A706-AB9964D8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7622-4E14-43E8-A30B-E97340E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2D45-394F-4473-B236-FEC10C57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451-A4B2-42F0-8AD6-744F3043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8755-E439-4D1D-BA92-35E353D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E28-AA39-4B10-97D9-58B33FCD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870-DCDF-4C48-BEB3-4447C24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7BA9-B76C-47D8-91EE-882DFBB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CB2-730D-4088-AED4-0A8503C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281-9428-49C3-A86E-C57BD9D3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2FF7-92DC-4BD6-A432-ED726F9B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D90-37E2-4E5B-AD13-87E199F8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19D-0AAD-4A01-8BFC-CEE0DDA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7BD-B28F-4A6F-B097-A11504FA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523-897C-4905-8920-DC70BAC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4FF-7F51-4073-B4D8-441A861A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C81-4E57-4FF5-BFA4-36105970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8CE-FA6A-4EBD-985E-D53CD1D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2B00-3286-44AB-B09D-CFC69C50D9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4415-2F83-43B8-A391-256FCADA3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фундаментной плиты под кран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литы, обеспечивающей безопасную эксплуатацию строительных и других кранов общего назначения, портовых кранов, а также кранов, устанавливаемых на объектах, исключающих возможность перерыва в раб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и расчетах учитываются характеристики крана, параметры критического груза, возможная ветровая нагрузка, а также марки бетона, арматуры и стали для анкерных бол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характеристики крана, параметры критического груза, возможную ветровую нагрузку, а также марку бетона и назначение крана. Расчет проводится в два этапа: в начале определяется тип и количество анкерных болтов, а затем производится расчет фундаментной плиты по устойчивости в соответствии с характеристиками гру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78000" y="819000"/>
            <a:ext cx="525168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анкерных бол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5740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анкерных болтов необходимо выбрать марку стали, а затем конструкцию бол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00280" y="1031760"/>
            <a:ext cx="425448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352600" y="3382920"/>
            <a:ext cx="4765680" cy="2224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24480" y="2871720"/>
            <a:ext cx="485640" cy="598680"/>
          </a:xfrm>
          <a:prstGeom prst="downArrow">
            <a:avLst>
              <a:gd name="adj1" fmla="val 50000"/>
              <a:gd name="adj2" fmla="val 30819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фундаментной плиты по устойчив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0320" y="5923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плиты, полученные в результате подбора анкерных болтов уточняются по результатам расчета плиты по первой и второй группам предельных состояний. Также определяются параметры армирова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35160" y="1211400"/>
            <a:ext cx="559584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фундаментной плиты под к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38320" y="1276200"/>
            <a:ext cx="5610240" cy="522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8:07:42Z</dcterms:modified>
  <cp:revision>258</cp:revision>
  <dc:subject/>
  <dc:title>Слайд 1</dc:title>
</cp:coreProperties>
</file>